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B9BB-618D-4526-AE81-3A3A848A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2F7-1C66-4886-93F5-7298DF89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7B5C-CFBB-49E4-8407-D0E5412B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F7A-17C7-4423-8271-5AFF8CB4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4BFE-35A3-411D-AC49-CD471C93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353-F371-446C-A1E5-01AF5271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EB7-A2C7-4A01-8495-DB6750E4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7F9-3B4E-42EE-96E0-032BE6C2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B61-6D88-425A-9072-5E3464B2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8441-77DF-43B2-874C-BF62A9F2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FD8-7229-4209-9AC1-AE4D4F93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506-6366-410B-A38A-78628668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611-D7A9-4199-AE49-9A83C9FE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9B3-9D93-46FA-B473-DE359011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8E3-1FB6-4BF1-848E-68EDD0CC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1C8-4CAB-46FB-B40B-5E3C281B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FA8-BC66-4C88-A036-C396D14B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FB52-1013-4E8A-BAB3-09263130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45E1-5CDB-4FC3-9E72-4A082908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F8E-EEA0-4BB2-AD61-34CAF12C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428-BF98-4C66-BB3B-389F6A67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BC0-740B-4AF8-91E3-750BEA94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902-6EFF-41E6-A713-3539990F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29B-ABA1-46E5-B5E9-85FDA2521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6BB5-69DB-46BF-BF1A-7F5B7B90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9FA-9DF3-4185-A037-9F2727072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1B3-8B66-49EC-9041-138CAE1F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AE0-B85F-4D43-B88E-68EB56AD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5FC-8702-4E6B-8620-1B583F9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DB8-0736-4D99-923D-4D266F5A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7BB-84B7-4DC9-A0EB-455D3960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8AB-4173-413F-8A7E-26D8638B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682B-54C2-4580-87AA-A588A51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3AF3-32FA-43BA-A9EE-EBD1BDB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2CB-FE7B-45C0-9864-6ED3FC4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61D6-A0C5-437D-BC71-2374B8EF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D1F5-D10E-487E-9842-462A2C3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A44E-8ED1-4AE8-A1ED-4BDB5A2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8D2-B9AF-4C87-A318-763905BF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751-E6A1-4D44-A096-9059CD9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168-A8D3-4890-9896-D00D81C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1DEA-F6F1-4366-9F6A-1DBEC2B0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9E39-07D0-404A-899E-7CC63E95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B46-1E82-44EB-8F6D-64C33F38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2AA-F974-4655-9E60-B481B1B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92B-7B19-429E-8D8A-02FB78F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B42-7920-42E2-B2E2-E775CFF1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838-ACFB-4FC3-A48F-C0BB4B10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5A1-FBA5-4A61-8127-8BABE42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476-9E21-4FA0-A2DD-91171FD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D27-306D-4A76-BA8F-00723FE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154-9C1E-4FA6-8509-D1DE70DF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FB5-770C-419F-95A9-B3B5A889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zyme La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6a.  How does the reaction rate in Part 4 differ with that in Part 2 for potato?  For live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faster in Part 4 for both the potato &amp; 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6b. Explain why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 smaller (crushed) pieces have a greater surface area of enzyme exposed to the peroxide = faster reac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a.  What general statement can you make about reaction rates &amp; temperatur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2758680"/>
            <a:ext cx="811044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reaction, the warmer the temperature, the faster the reaction rate (up to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b.  What does kinetic energy have to do with thi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energy is the energy of motion- the increased temperature causes the molecules to move faster &amp; interact with each other mor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c.  What was your predicted  reaction rate for 100 degrees Celsi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2836440"/>
            <a:ext cx="811044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d. Did you results support your prediction?  Explai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; too much hea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n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ange the shape) of an enzyme, making it 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a.  What is pH a measure of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idic (lots of H+ ions) or basic (lots of OH- ions) a substan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b.  Which pH conditions reacted poorl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(basic) and HCl (acidi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c.  Under what conditions did the enzyme work well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(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d.  Would you say that enzymes are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specific or nonspecific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bout the pH of the environment in which they must fun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4465800"/>
            <a:ext cx="811044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- catalase only worked 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neutr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.  Define cataly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speeds up the rate of a reaction without being used up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a.  What temperature change occurs in the tube for Part  7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b.  What caused this chang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2215800"/>
            <a:ext cx="8110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reaction gave off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c.  Would you say that the reaction of catalase and hydrogen peroxide is an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endothermic or exothermic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rea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3766680"/>
            <a:ext cx="81104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a.  Which gas is given off during this rea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2603160"/>
            <a:ext cx="81104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b.  Why do you think s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2447640"/>
            <a:ext cx="81104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wing splint flared up (burned brigh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c.  What substance is left in the test tube after the breakdown of hydrogen peroxid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3146040"/>
            <a:ext cx="811044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d.  Write a balanced equation for this react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al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----------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.  How are enzymes &amp; catalysts similar?  Differen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speed up reaction rates without being destroyed (same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are proteins produced by living cells whereas catalysts can be any chemical that speeds up reaction rates (a catalyst does not have to be a 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.  What substance used in Part 1 is a catalys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525400"/>
            <a:ext cx="8110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anese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.  What source of enzyme gave a better reaction -- liver or potato?  Wh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2215800"/>
            <a:ext cx="8110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contains more heme, which is attached to the protein part of cata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a.  In Part 3, what are you really adding when you add more live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2138040"/>
            <a:ext cx="81104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nzyme (catal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b.  Why does the reaction turn out as it did when more liver is add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2525400"/>
            <a:ext cx="8110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happened when fresh liver was added to the test tube because the peroxide was already broken down - there was nothing for the enzyme to ac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c.  What happens when more peroxide is added to the old liver + liqui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2836440"/>
            <a:ext cx="811044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ction occurred - the enzymes in the old liver broke down the fresh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d.  What do the results of this part of the experiment tell you about enzymes &amp; how they reac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2914200"/>
            <a:ext cx="811044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is not used up or destroyed during a reaction - it can be used over and over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48:33Z</dcterms:created>
  <dc:creator>NHS NPS</dc:creator>
  <dc:description/>
  <dc:language>en-US</dc:language>
  <cp:lastModifiedBy>NHS NPS</cp:lastModifiedBy>
  <dcterms:modified xsi:type="dcterms:W3CDTF">2015-12-16T19:48:16Z</dcterms:modified>
  <cp:revision>8</cp:revision>
  <dc:subject/>
  <dc:title>Enzyme Lab</dc:title>
</cp:coreProperties>
</file>